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5E7D-DED1-4EC3-B937-70A5C821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D13-566D-467B-B276-8B82043E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FCD2-76AF-4313-A89A-AFB76D8A5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0D81-0405-40AE-9A5A-51FDD413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AB87-E3B6-412B-B5E0-D17F8777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44A-EE00-4C79-92DF-8143DC26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2178-68E9-4C6A-B819-6032B2E9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D21-647A-48B5-85B9-E6DFBA88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4323-605F-4FAF-AF46-2E8E9C52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8FB-DB64-4318-A7E4-280E19B2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B5F-9C34-4E76-B0D8-453B082F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AC7F-E84E-4D6E-93BF-F7CD83C9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95B3-A6AA-476C-90EB-EF5F2F2E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C9EB-C426-424D-895F-50B17A5F4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5B28-0B7B-46E5-88F9-46B4F149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EFF-151B-479F-BB7D-F2AA5B8A5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02B-1CBB-4E85-8871-C7240475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FBA8-88A7-49C5-9B97-BC038630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CCD6-587C-47B2-8895-FB1114AAF1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athematical Processes are the actions of doing mathematics. These are presented in the Revised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thematics Curriculum of 2005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&lt;Name them out loud&gt; These process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form the primary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of the metaph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interconnected processes of Representing, Reflecting, Reasoning and Proving, Connecting and Selecting Tools and Computational Strategie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make up disk of the gea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Communicating and Problem Solvin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are closely linked to each of the other 5 proc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essential that our students are capable of communicating their mathematics therefore it is essential that they are given opportunities to practice.  Communicating is integral in each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of the other processe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 Solving is </a:t>
            </a: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the driver of all mathematics.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The solution of rich mathematics questions requires the application of skills and understanding of concepts and incorporates some or all of the mathematical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&lt;&lt;Click to next slide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3899-7D27-4F20-9B9E-8D413EAC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586F-FEF4-4C4E-97B8-CBC4438B0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CB83-9D8A-4A38-A41A-00464DF8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4467-D25E-410B-A0D2-465A3C42F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26F-5C69-4E5A-A053-02628A5B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C253-9454-48CB-A758-9535896C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DE85-BD7B-4FD9-93E2-B39FDB47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9C1C-AD8C-4D66-B245-4398A5C0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9B7-EB8E-41EE-90DC-2EA738ED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051-16FE-493D-A2A5-EE852FB2E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9D80-7BD3-4AFE-A365-7487C581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B74-8A1C-4322-90B4-54E1CFE0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3B48-0533-40BD-BC20-E2268F9A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0954-D78C-4D84-953F-27A1FFA8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F90-40EE-4943-B037-98B97DAA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DDD-0B88-4F44-8618-2BEF81A3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52F7-F531-4E2C-822A-A8EDC0F1B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A19-5946-405C-81E8-9715BA4B2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B6C-718D-447B-84D4-80A219E6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16A-E605-4ED9-94EE-E52634E7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082-A31B-46A4-A5A6-5C040023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419E-691F-49EF-82D0-D0C252D3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BD4C-D625-4848-AB5F-C16F4CE0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0569-27FF-443B-9EC0-F8B1F0A2C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0C7F-8EEB-481E-9BAC-5E467281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559-0C1F-47F5-A681-95B31812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846-EFA7-4533-99CF-ADCD69B55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E59-63DD-498F-91A3-0EDDCE931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10D-24F7-4B45-B0A0-6DF6AEAB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25AF-BC23-4284-BC55-8208586CA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ECFF-AE64-4887-BFEE-F62ED351D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743-C940-40E2-B8C0-BF34F2C6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C870-5FA1-4D24-AA31-E2568817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9A3-6273-4749-98B2-00859374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3E01-AE25-41D8-A59D-9F86098D7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9BF5-1703-424A-82C3-B1A6EAE52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C60-E74E-4623-AE44-C079F366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EEE-AA8F-42D8-959F-17B4A9A6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BAC-AAD0-49B3-A37E-CADD5EB32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8B6B-D09D-4052-B77B-E546E339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2A1-E2DB-43BC-BBDF-C99709404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4E1D-2005-42EF-895A-CD4025BD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E69-4C2A-4C1B-BCB2-759B9B65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4FB-8BEC-4D65-9135-9B98CA25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78F-5690-4C07-8E72-A30ED592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D9B-3B31-41F7-B579-9C006AFD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191-C4EA-436C-97AC-4EAC041F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CF8A-042F-4445-96D5-1E1BB5ED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475-55D1-4FFE-B42E-B7AD52F4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FD3-D142-455B-A88C-8E1614C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6210-90D1-42DC-A5DC-D6BA9786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8749-5229-45C2-A891-DC649E0D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2DA-1709-4155-A4BB-FA20EF0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2F8E-DF4B-4C0F-94ED-EF829B01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6DE-E0C9-4FE1-9379-6BD1B3E4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CF5-BAC7-4F0F-B093-24A4D5D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5EBC-1621-4B2C-AD1B-9D0CE05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208-1295-4B9E-951E-F361F12A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8C6B-8046-4E1F-8F7A-68D7EE8C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7FA-6130-4D4B-B740-695E4984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82D-F3F5-4C40-A9E4-1FF9E6AF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D10-7F67-4718-AA75-ACE9505D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D83-A7A9-4022-9B05-9286CBF2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C46-20FE-4C67-A612-3C7DD467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EDF-0E55-42DC-B059-1A3F261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DC8-8EA6-4654-AABC-E67FCF3E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866-5E40-46F4-9D63-EF72435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B4A-5BDA-4EFC-8591-44223BC1E4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F71-D33C-458D-A927-3594CDFAD06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E257-C59A-4C5D-BF99-8A6071E837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7B08-0B58-4A6E-9F25-A49AC242C0C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this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7C4-34C8-4563-93C9-959F6ED3C0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153B-381B-4EE9-9902-9BEFDE3868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215E-9CFD-4A23-A911-BB0C47D04A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5C0B-1C34-4008-8C87-3A554A39EB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7EF-F1A1-441B-B7D1-6B39654134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36A-1A67-489C-BC64-EC0100CD63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322-7972-49B8-A1A5-A8A03C5C6D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3B9-2F6E-4B2F-94CF-BCB53947C8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3F91-9590-406C-887E-BE89191E40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6AFD-5EE8-4C1D-B363-92B23248F4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8A05-2ED3-4A25-A087-4727848275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F66-291C-4779-9926-C69D7DE053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8739-1244-4378-95EB-9156F7490C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ED8-0E6F-438F-832F-D998BCC6E6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929-92D9-48A3-8704-08EE32FCF3D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0424-C426-4F1F-9871-396621BD87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C25F-35F1-4DEC-A9C7-AD8F88D1C3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6C1-0FB0-4024-8B2A-240B2A6897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8E5-306E-41C8-AE86-8BAE7C8390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, on first blush, this may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89E2-8B2E-44D6-93E2-842D5D5A67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33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33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33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33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34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41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426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D1B4-D58A-47F6-9746-26DE8A737D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1905120"/>
            <a:ext cx="86868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1171-1AE9-48FD-A063-2E8D6DEA97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457200" y="1905120"/>
            <a:ext cx="327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6AC0-FB75-491F-88BF-62E402955C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203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9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9A5-05AC-4E6A-BBE1-113CB66C7D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61D8-545F-41BA-9723-F0C43F98A7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4A99-7D96-4411-81DB-83296793E1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43000" y="266688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04A3-726C-4086-9B35-7BB672B8F0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A2F-4BFC-4B4D-9744-9A3F148D66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EFF-CAE3-422E-B442-CC2A0EE9B4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143000" y="266688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980D-4788-4B61-B8A5-92D2FA125D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92B4-EEF5-4A3C-BCA1-B4E189F5FB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1E9-1016-4C1B-A030-9014326E39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2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BCB5-76EB-4741-8D0E-6D48154B7E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26668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3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C30B-298C-4517-BAAD-FE60174F24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43000" y="266688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2071-DA56-489C-AB3D-C0DE3DB1A2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36A4-106A-474F-8708-87FE1F9ACF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50C0-C5A3-4586-81FE-7E2BE49F17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know what the big ideas are so that the connections to prior knowledge they are making are more exp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D64-723D-4DC8-940B-36339D3EF4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82880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604-09DB-4AD9-946E-9F7BF9D2A2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20145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DFDB-2224-4947-B60D-071CEDFAA7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C3C-1250-460F-9F89-C38A402D61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F0D7-FF09-4CA5-8CC6-AA86A94E04D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3E97-69EA-4D51-84F4-2174CD441C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E00C-270F-462F-A9BC-05653696BB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B249-47D8-434A-9280-AED0D0EC66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66680" y="25909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CD54-CF32-4246-B2AC-BC0F2DF624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66680" y="25909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7EE-F651-458D-8CD9-4E02DC3360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066680" y="259092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B4F1-CE15-4FF8-B7F2-7CC64AC1CE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3B46-47E6-472B-9120-1062034858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D9A2-B368-4071-9C5C-A68340AE97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289548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C56-9A56-4FE6-A6E1-5CC3281764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y goal today might 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066680" y="1981080"/>
            <a:ext cx="741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0A8-D43B-4DE1-87B4-8B5D8632B7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9810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C56-5D68-4687-9E1D-1AC524DF24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1C0A-1FFF-42F0-A97C-9E85372E62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9810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1D80-53F5-4F4D-A3EA-5F024F341C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that same relationship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5F4-98E0-4F6B-A540-C7594D7167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AA2-4101-4584-A0D2-8C82052CEA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066680" y="19810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6D43-B78D-48C5-BC0A-A7D50BB57C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7860-8573-4BBB-83FC-D021C967FC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6298-7656-4E53-B01A-2F70A76ADB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E79F-1D45-43E9-88CF-6FC902CBE6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623C-A88B-4C4A-A22A-997EB1F51F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E759-686E-4DC9-AF02-5130D7F7B5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7:20:59Z</dcterms:created>
  <dc:creator>PSteele</dc:creator>
  <dc:description/>
  <dc:language>en-US</dc:language>
  <cp:lastModifiedBy>Marian Small</cp:lastModifiedBy>
  <dcterms:modified xsi:type="dcterms:W3CDTF">2009-07-21T18:52:37Z</dcterms:modified>
  <cp:revision>129</cp:revision>
  <dc:subject/>
  <dc:title>Slide 1</dc:title>
</cp:coreProperties>
</file>